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07B4-5850-4121-AF6A-C4CD1BEEA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5C87-6326-4EC8-B904-3589C1646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9C0E-59A6-4A7C-97CE-66FDDF325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0986-C201-44CB-B959-61660DAEE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0D176-670C-48ED-9147-C5B9748A4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13865-1774-40C6-9A62-0C6D09363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69DFF-5ECF-4B36-8BBB-5833431E0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AC96C-73F8-4CB7-95C3-5681173C6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A2AA7-8C2D-40EB-8B9D-D5D248E71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0B3B7-834D-4289-BBE6-5D58E5164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44BD4-F040-4C09-BAF9-6B9E374C9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33F1-3C00-4DA8-BAFD-F2865BAB2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5BA3E-7C3A-495B-AAB8-1E4DAE378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0F4DE-AB7A-43A0-AB41-B96CCD41D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B12FF-B11F-4914-BF03-1F08985A6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D2391-DDE5-41F2-994E-5EF609213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98BE1-1594-477C-9527-1BAAED1B5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46E9B0-5936-4B08-98CF-65FB798B6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A465EE-87A3-4707-B49F-313E08ED2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95A0F2-1066-49DC-BA00-31C1BDE3D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AC2B6E-8640-4CCB-8977-9987934FB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D8EB07-4F70-4845-910E-C7E0D6999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EAC5-9044-4A9C-9430-6DC3A89A4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541E35-89ED-4DF1-B747-F5740D608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9F1728-037A-4E64-AAEE-AF66F6177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8714C5-09FD-46F3-96C5-9E90389EA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AF1AE2-9DED-4B0E-AE20-2B778C4E7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C57888-E06C-494A-BF96-45EB14D90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234D6B-8F70-46C2-91B3-7D460A268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F5F0BE-12E0-4DDD-860A-20D69767C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7C6E-71B4-4105-A98A-F70BE5F0E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E84A-1F82-4C1D-A517-A809AF94F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88A1-8176-46FC-B0BD-D3823C3F5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F1B6-5C35-4E05-A86E-82F3B0D89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FC9F-E41D-4361-9C64-7564441D0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BEBE-AB6E-4E00-844F-2F8ECEC74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787B4-09E5-4525-A86E-0872441CD548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8CDA6-112E-4727-9DCD-A171A5BDB4C7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D7F80-6F7D-4F2B-BDAB-91096F91262B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5148360" y="907920"/>
            <a:ext cx="399564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Tahoma"/>
                <a:cs typeface="????Boutros Rokaa"/>
              </a:rPr>
              <a:t>غنوا يا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Tahoma"/>
                <a:cs typeface="????Boutros Rokaa"/>
              </a:rPr>
              <a:t>أبناء الله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3108240" y="0"/>
            <a:ext cx="614376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غنّوا يا أبناءَ الله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يسوع الـمسيح قام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غلب الموت ملك الكون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زال سلطان الظلام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2340000" y="0"/>
            <a:ext cx="65754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ابن الله رب الحياة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حيّ إلى دهر الدهور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من النور الذي لا يغرب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تعالوا وخذوا النور.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3108240" y="0"/>
            <a:ext cx="614376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غنّوا يا أبناءَ الله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يسوع الـمسيح قام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غلب الموت ملك الكون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زال سلطان الظلام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2340000" y="0"/>
            <a:ext cx="65754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ابن الله رب الحياة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حيّ إلى دهر الدهور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من النور الذي لا يغرب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تعالوا وخذوا النور.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2916360" y="0"/>
            <a:ext cx="599904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Times New Roman"/>
                <a:cs typeface="Akhbar MT"/>
              </a:rPr>
              <a:t>قام الربّ وطِئ الـموتَ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Times New Roman"/>
                <a:cs typeface="Akhbar MT"/>
              </a:rPr>
              <a:t>افرحي أورشليم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Times New Roman"/>
                <a:cs typeface="Akhbar MT"/>
              </a:rPr>
              <a:t>كلُّ شيءٍ صار جديداً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Times New Roman"/>
                <a:cs typeface="Akhbar MT"/>
              </a:rPr>
              <a:t>قد تبدّل القديم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52280" y="0"/>
            <a:ext cx="54277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000000"/>
                </a:solidFill>
                <a:latin typeface="Times New Roman"/>
                <a:cs typeface="Akhbar MT"/>
              </a:rPr>
              <a:t>اللهُ حيٌّ بين شعبه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000000"/>
                </a:solidFill>
                <a:latin typeface="Times New Roman"/>
                <a:cs typeface="Akhbar MT"/>
              </a:rPr>
              <a:t>جعل مسكنَه معهم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000000"/>
                </a:solidFill>
                <a:latin typeface="Times New Roman"/>
                <a:cs typeface="Akhbar MT"/>
              </a:rPr>
              <a:t>لا أحزانَ لا أوجاعَ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000000"/>
                </a:solidFill>
                <a:latin typeface="Times New Roman"/>
                <a:cs typeface="Akhbar MT"/>
              </a:rPr>
              <a:t>لا دموعَ بعد اليوم.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100000">
              <a:srgbClr val="00008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عدُ اللهِ قد تحقّق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تمّ قولُ الأنبياء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كنّا من قبل أمواتاً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فصرنا الآنَ أحياء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100000">
              <a:srgbClr val="00008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قمنا معه سنملك معه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ليس لـمُلكه انقضاء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معه سنحيا إلى الأبد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لن يطالنا الفناء.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00"/>
                </a:solidFill>
                <a:latin typeface="Times New Roman"/>
                <a:cs typeface="Akhbar MT"/>
              </a:rPr>
              <a:t>شعبُ الله ارفع رأسك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00"/>
                </a:solidFill>
                <a:latin typeface="Times New Roman"/>
                <a:cs typeface="Akhbar MT"/>
              </a:rPr>
              <a:t>إن إلهَك عظيم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00"/>
                </a:solidFill>
                <a:latin typeface="Times New Roman"/>
                <a:cs typeface="Akhbar MT"/>
              </a:rPr>
              <a:t>أين شوكتُك يا موت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00"/>
                </a:solidFill>
                <a:latin typeface="Times New Roman"/>
                <a:cs typeface="Akhbar MT"/>
              </a:rPr>
              <a:t>وغلبتُك يا جحيم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52280" y="0"/>
            <a:ext cx="622008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موتُ الربِّ صار حياةً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أضحى نصرُنا أكيد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هيّا نفرح ونهلل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أهل الـملكوتِ الجديد.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8T20:39:50Z</dcterms:created>
  <dc:creator>Charbel Azar</dc:creator>
  <dc:description/>
  <dc:language>en-US</dc:language>
  <cp:lastModifiedBy>-</cp:lastModifiedBy>
  <dcterms:modified xsi:type="dcterms:W3CDTF">2003-04-20T07:36:29Z</dcterms:modified>
  <cp:revision>7</cp:revision>
  <dc:subject/>
  <dc:title>PowerPoint Presentation</dc:title>
</cp:coreProperties>
</file>